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419-B455-4E3D-A18E-97922A70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8B3-E793-4C47-9350-521CF8C7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793-2DF3-442E-BF42-15564D28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CDB-F1B0-4158-930D-929BE3D9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41B3-8046-48E7-B1A3-4B73D11E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E522-B597-47E2-8CE2-66D71651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01BD-CA7F-4E59-9F33-B522B485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CC50-E4F8-45C2-B8C0-6AB535CF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9609-E23C-4343-AD7A-CE8100A9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CDF3-ED4F-41C8-AC0D-977D1B23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ACCF-4A5E-49FB-827B-B566B964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648-9F21-490D-ADFA-944C7324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B584-0FE6-4E80-99EB-D2B8D018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0F01-A4F7-42DF-A33E-8FCBEF34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4CE7-E31A-46AA-995D-7E717FDF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E280-6788-40E0-A259-7BCD5B16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C9EB-FD10-4509-B294-13E9EFFF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38B-DDAE-4B37-8CAD-891CCAAD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F7F-7473-48C4-9808-56D18A5F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7B0-3717-4F64-8FCE-ABED54C5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5D1-1AE3-481F-B33A-CC92C457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A44-2869-4916-82E3-B4B63461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D7C-3CAD-4570-8989-0172CFCC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A05-4802-48A6-B669-5C3DB712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F283-7CED-46C7-A0F5-9FD5CC5872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2DD0-5E89-44AF-8135-8676F03532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132000" y="1628640"/>
            <a:ext cx="32004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3333cc"/>
                </a:solidFill>
                <a:latin typeface="Comic Sans MS"/>
                <a:ea typeface="Arial"/>
              </a:rPr>
              <a:t>Titlul proiectul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328464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Echipa de proi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Nume </a:t>
            </a:r>
            <a:r>
              <a:rPr b="1" lang="ro-RO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și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prenume</a:t>
            </a:r>
            <a:r>
              <a:rPr b="1" lang="ro-RO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,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 c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Unitatea de invatam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32000" y="549360"/>
            <a:ext cx="720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63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cc"/>
                </a:solidFill>
                <a:latin typeface="Comic Sans MS"/>
              </a:rPr>
              <a:t>Întrebările proiectulu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8920" y="2565000"/>
            <a:ext cx="720072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Comic Sans MS"/>
              </a:rPr>
              <a:t>Întrebarea esențial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Comic Sans MS"/>
              </a:rPr>
              <a:t>Întrebările unitatăţii de învăţ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Comic Sans MS"/>
              </a:rPr>
              <a:t>Întrebări de conțin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61920" y="556920"/>
            <a:ext cx="6383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biectivele proiectulu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520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biectiv</a:t>
            </a:r>
            <a:r>
              <a:rPr b="0" lang="ro-RO" sz="3200" spc="-1" strike="noStrike">
                <a:solidFill>
                  <a:srgbClr val="ff3300"/>
                </a:solidFill>
                <a:latin typeface="Comic Sans MS"/>
              </a:rPr>
              <a:t>ul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biectiv</a:t>
            </a:r>
            <a:r>
              <a:rPr b="0" lang="ro-RO" sz="3200" spc="-1" strike="noStrike">
                <a:solidFill>
                  <a:srgbClr val="ff3300"/>
                </a:solidFill>
                <a:latin typeface="Comic Sans MS"/>
              </a:rPr>
              <a:t>ul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3300"/>
                </a:solidFill>
                <a:latin typeface="Comic Sans MS"/>
              </a:rPr>
              <a:t>Obiectivul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06640" y="523800"/>
            <a:ext cx="60004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biectiv 1 - conţin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8920" y="2707920"/>
            <a:ext cx="7219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magin</a:t>
            </a:r>
            <a:r>
              <a:rPr b="0" lang="ro-RO" sz="3200" spc="-1" strike="noStrike">
                <a:solidFill>
                  <a:srgbClr val="ff33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06640" y="523800"/>
            <a:ext cx="60004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3333cc"/>
                </a:solidFill>
                <a:latin typeface="Comic Sans MS"/>
              </a:rPr>
              <a:t>Obiectiv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ro-RO" sz="4400" spc="-1" strike="noStrike">
                <a:solidFill>
                  <a:srgbClr val="3333cc"/>
                </a:solidFill>
                <a:latin typeface="Comic Sans MS"/>
              </a:rPr>
              <a:t> - conţin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18920" y="2707920"/>
            <a:ext cx="7219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magin</a:t>
            </a:r>
            <a:r>
              <a:rPr b="0" lang="ro-RO" sz="3200" spc="-1" strike="noStrike">
                <a:solidFill>
                  <a:srgbClr val="ff33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06640" y="523800"/>
            <a:ext cx="60004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3333cc"/>
                </a:solidFill>
                <a:latin typeface="Comic Sans MS"/>
              </a:rPr>
              <a:t>Obiectiv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ro-RO" sz="4400" spc="-1" strike="noStrike">
                <a:solidFill>
                  <a:srgbClr val="3333cc"/>
                </a:solidFill>
                <a:latin typeface="Comic Sans MS"/>
              </a:rPr>
              <a:t> - conţin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18920" y="2707920"/>
            <a:ext cx="7219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magin</a:t>
            </a:r>
            <a:r>
              <a:rPr b="0" lang="ro-RO" sz="3200" spc="-1" strike="noStrike">
                <a:solidFill>
                  <a:srgbClr val="ff33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cc"/>
                </a:solidFill>
                <a:latin typeface="Comic Sans MS"/>
              </a:rPr>
              <a:t>Concluzii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Comic Sans MS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Comic Sans MS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Comic Sans MS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71640" y="523800"/>
            <a:ext cx="37720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ibliograf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76518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ursa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ursa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3300"/>
                </a:solidFill>
                <a:latin typeface="Comic Sans MS"/>
              </a:rPr>
              <a:t>Sursa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3300"/>
                </a:solidFill>
                <a:latin typeface="Comic Sans MS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9T03:18:03Z</dcterms:created>
  <dc:creator>Adi Sopon</dc:creator>
  <dc:description/>
  <dc:language>en-US</dc:language>
  <cp:lastModifiedBy>Scoala 2</cp:lastModifiedBy>
  <dcterms:modified xsi:type="dcterms:W3CDTF">2011-01-13T17:13:58Z</dcterms:modified>
  <cp:revision>43</cp:revision>
  <dc:subject/>
  <dc:title>Lucrare metodico-ştiinţifică  pentru obţinerea gradului didactic I</dc:title>
</cp:coreProperties>
</file>